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E2549-7E74-4AC0-8E26-B7CE7DEA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38C7-27B2-416B-A5CF-934F5CA0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FAEE0-4237-4B2A-9DFA-BAE92340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E01B9-CB1F-4449-A45E-5C40E08F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1AE0-E1B5-49EA-B06E-A3854318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E8A9-A7D1-4515-8CD8-FA48D723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2092-4C1A-4063-8446-44B93BB3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B9B1-9E4A-4483-AEED-3310C706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5903-2856-4B86-A38D-7C3CAC6E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8444-9F01-46C6-B49D-4F8C990F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A97F-21DE-4277-AFF4-EFE0FF3E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605A6-BDCF-48B6-B950-0C0C214F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9418-DED5-41E7-8D8B-AD2BC068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2669-39F5-4B4E-AC57-EECD4C7D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7B2D-913F-490B-BBFC-463256FE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23DC-D11C-4BE9-9AEF-37231230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2769-83DB-487F-AFC3-107D6E94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FE332-E6AE-49D6-B7B5-46C0129F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01D53-27C7-4F98-B09F-82C17803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6CF22-DC45-45CA-99F1-5BF1234D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9E03-2F10-46DA-BDB3-06A0BC04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F879-A20B-4BDE-A625-10DB4B06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4A539-7D04-4655-B750-996B60C0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46DB-13A1-46DF-B0E7-10C96CDC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F024-CDAB-4D74-A96B-10D598B9626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89B8-964B-460A-A2CD-CD202C3E0B9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79280" y="837720"/>
            <a:ext cx="8856720" cy="4969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29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65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ам бъди правдив и честен, друг да можеш науч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 се вглеждай в зова власт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Господните оч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Сал тогава, смел и сил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руг в доброто настави!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0217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 Обуздавай си езика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лото лесно той мълв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авда в тебе нека блик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ред добро желай, прав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С мисъл свята и велика ти ума си изпълни!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22184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Имай вяра крепка, жив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х най-кротък, тих, смирен, съвест чиста, незлобив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 небесен, съвърш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к' сърце ти бисер бъде и кристал душата т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я лъчи да пръска всъд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любов, мир да шепти.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8-13T16:08:35Z</dcterms:modified>
  <cp:revision>58</cp:revision>
  <dc:subject/>
  <dc:title>Slide 1</dc:title>
</cp:coreProperties>
</file>